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0A5C-00C6-47F1-8241-9EF6534D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6480-4AA1-4BBA-938D-D5EB9205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E017-CF41-411C-AE58-CA8B65BB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BC25-A84E-493E-B856-5BD10803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C074-3FB8-4224-963E-AF0D10AD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35F-23DD-4BED-9C55-7BCE7A96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9BC0-7A33-4D1A-991C-2C230761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C1B5-6E2C-4884-AE4F-CE33F390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843A-5205-4141-ADB9-2944D071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85F2-CD08-4EA2-8A9B-60E91A78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8288-8874-4DF6-95EA-317DA197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6E3C-D03D-434A-B456-06E0CC4F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3EC6-C8CD-42AC-B2C7-21B0F5ED8D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341000"/>
            <a:ext cx="6966000" cy="34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Обобщающий урок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по теме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«Беспозвоночные животные»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7 клас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4214880" y="571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 Гречухина Наталья Василь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биолог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Алексеевская С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6912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оверь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784836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- б, в, г, д, с, и, м, н, п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- и, л, н, о, п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- а, е, ж, и, к, н, р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6913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08000" y="1844640"/>
            <a:ext cx="152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Сравните круглых и плоских черве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1332000" y="836640"/>
            <a:ext cx="6480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У вас должно получитьс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11280" y="1988640"/>
            <a:ext cx="411480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- г, е, ж, 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– б, д, з, и, 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-  а, 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Если у тебя такие ответы, то ты </a:t>
            </a:r>
            <a:r>
              <a:rPr b="0" lang="en-US" sz="4000" spc="-1" strike="noStrike">
                <a:solidFill>
                  <a:srgbClr val="f76031"/>
                </a:solidFill>
                <a:latin typeface="Tahoma"/>
              </a:rPr>
              <a:t>МОЛОДЕЦ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08360" y="1844640"/>
            <a:ext cx="1378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Ж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Выберите правильные су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61912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400"/>
            </a:br>
            <a:r>
              <a:rPr b="0" lang="en-US" sz="44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34920" y="1844640"/>
            <a:ext cx="123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еречислите типы беспозвоночных животны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68360" y="1844640"/>
            <a:ext cx="48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Губ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ишечнополос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Плоски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ругл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ольчат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Моллюс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Иглокож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Членистоног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Иглокожие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Из перечисленных признаков  выбрать те, которые характеризуют тип иглокожих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вусторонняя симметр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учевая симметрия   </a:t>
            </a: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вестковый скелет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рящевой скел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ровеносн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дно-сосудист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егенерация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система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пол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рвная система сетчат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ёрвная система узлов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рекательные клет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ош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щупальц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пресны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морски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380400" y="18446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97240" y="21128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099680" y="2997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2659680" y="335772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4172760" y="3645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748760" y="4581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460040" y="6093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200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как ты ответи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79640" y="1916280"/>
            <a:ext cx="130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476360" y="620640"/>
            <a:ext cx="590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Паукообразн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258920" y="836640"/>
            <a:ext cx="6626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2000"/>
            </a:br>
            <a:r>
              <a:rPr b="0" lang="en-US" sz="36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08360" y="1413000"/>
            <a:ext cx="13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6308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отнесите ротовые органы насекомых с их хозяев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2124000" y="907920"/>
            <a:ext cx="5112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1332000" y="914400"/>
            <a:ext cx="633564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себ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34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r>
              <a:rPr b="0" lang="en-US" sz="2800" spc="-1" strike="noStrike">
                <a:solidFill>
                  <a:srgbClr val="1b0701"/>
                </a:solidFill>
                <a:latin typeface="Tahoma"/>
              </a:rPr>
              <a:t>Выберите правильные утвержде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66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Подпишите названия изображённых животных. </a:t>
            </a:r>
            <a:br>
              <a:rPr sz="2400"/>
            </a:b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К какому типу их относят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688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24360" y="1916280"/>
            <a:ext cx="116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476360" y="1197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Правильные утвер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76031"/>
                </a:solidFill>
                <a:latin typeface="Tahoma"/>
              </a:rPr>
              <a:t>Желаю удачи на контрольной работе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116000" y="1413000"/>
            <a:ext cx="6697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57345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о новых встреч!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57345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09" name="Picture 3" descr="dancapinguins01"/>
          <p:cNvPicPr/>
          <p:nvPr/>
        </p:nvPicPr>
        <p:blipFill>
          <a:blip r:embed="rId2"/>
          <a:stretch/>
        </p:blipFill>
        <p:spPr>
          <a:xfrm>
            <a:off x="1835280" y="2421000"/>
            <a:ext cx="57402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Выберите правильные утверждени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7056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равильные утвер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2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4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6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b1a"/>
                </a:solidFill>
                <a:latin typeface="Tahoma"/>
              </a:rPr>
              <a:t>Соотнесите название типа клеток с их функциями у кишечнополостных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13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верьте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Внешнее и внутреннее строение плоских червей</a:t>
            </a:r>
            <a:br>
              <a:rPr sz="2400"/>
            </a:b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Заполните таблицу, поставив знаки +, если признак есть и -, если нет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6264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642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7:33:33Z</dcterms:created>
  <dc:creator>Пользователь</dc:creator>
  <dc:description/>
  <dc:language>en-US</dc:language>
  <cp:lastModifiedBy>Василий</cp:lastModifiedBy>
  <dcterms:modified xsi:type="dcterms:W3CDTF">2011-03-04T17:06:56Z</dcterms:modified>
  <cp:revision>7</cp:revision>
  <dc:subject/>
  <dc:title>Обобщающий урок  по теме  «Беспозвоночные животные» 7 класс</dc:title>
</cp:coreProperties>
</file>